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36E-6295-4C8D-B152-F8261C7C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6E8-FBE4-49ED-8744-608AFF17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7B7-80F5-4390-A053-769D0E22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840-FBC6-46F7-9998-6786C8A4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667-56FC-47ED-9D40-084B90CF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D90-09D2-4DBF-89E0-FEEC58A9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84F-83DC-4840-9F55-7BCD8C24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2DA-5D60-4D4B-B90F-8222CCE3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27D-9142-46F3-A3CD-9E81834A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069-5DD6-400E-A636-05C8BB09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881-C55F-481B-BE86-D4DEF8DB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746-3520-4B9E-A626-7096E7D1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49B3-8AAB-484E-9D80-E325BE35D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EER                                            ARDEER                                           ARDEER                                      ARDEER  150TH                        ARDEER MILLENNIUM                        ARDEER  REC.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1616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EER  REC                            ARDEER  REC.  50TH.                     ARDEER  REC  75TH                                 ARDROSSAN                                ARDROSSAN                                ARDROSS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ROSSAN                              ARDROSSAN  150TH              ARDROSSAN  MILLENNIUM                   BEECHAM  WORKS                                BEITH                                              BE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692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ITH  100TH                                      BEITH  125TH                 BLACKLANDS  &amp;  DISTRICT                       BLACKLANDS                           BLACKLANDS  25TH                              DAL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0520" y="620640"/>
            <a:ext cx="1242720" cy="86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16160" y="54936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28880" y="47628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753240" y="47628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265960" y="333360"/>
            <a:ext cx="97020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04880" y="213372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144880" y="1628640"/>
            <a:ext cx="1087200" cy="1527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313240" y="2276640"/>
            <a:ext cx="98748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753240" y="2276640"/>
            <a:ext cx="987480" cy="88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193240" y="2205000"/>
            <a:ext cx="100620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1800" y="364500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289240" y="3933720"/>
            <a:ext cx="987480" cy="89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873600" y="3789360"/>
            <a:ext cx="804600" cy="973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313240" y="3789360"/>
            <a:ext cx="104328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753240" y="371628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704880" y="5229360"/>
            <a:ext cx="1006560" cy="121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2289240" y="5300640"/>
            <a:ext cx="100656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728880" y="5445000"/>
            <a:ext cx="1024200" cy="102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5168880" y="537372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15772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728880" y="1773360"/>
            <a:ext cx="1017720" cy="131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8265960" y="3716280"/>
            <a:ext cx="976320" cy="108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8193240" y="5373720"/>
            <a:ext cx="1130040" cy="110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240160" y="692280"/>
            <a:ext cx="10479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54:34Z</dcterms:created>
  <dc:creator>JOHN YOUNG</dc:creator>
  <dc:description/>
  <dc:language>en-US</dc:language>
  <cp:lastModifiedBy>JY</cp:lastModifiedBy>
  <cp:lastPrinted>1999-12-13T15:13:31Z</cp:lastPrinted>
  <dcterms:modified xsi:type="dcterms:W3CDTF">2007-04-04T18:38:31Z</dcterms:modified>
  <cp:revision>25</cp:revision>
  <dc:subject/>
  <dc:title>No Slide Title</dc:title>
</cp:coreProperties>
</file>